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16D85-6780-47C9-B8B6-43D6C477F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3486A-A0D0-4593-ACE8-25ABF3A48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D3FC9-724E-4352-AAE6-40B208BE2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BBB2C-5282-4212-8B76-2DB7DC934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74D5CA-DD64-415A-ADBC-A9069C0187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88A1F-033B-4970-8DB3-558BDBDDE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290E9-6B4A-4110-A2F7-7DCC7F64F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F1EBE-DCA8-4299-8EA8-676E2B848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C8BFE-F5FE-481F-A4B7-6501C75E5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EFDD1-1FAF-4C22-BA02-589AC6A15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689FF-D30B-4692-BFF0-B5A5C45F1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76942-5BFE-4D91-AECC-AC94A1C05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DA05A-0CEE-4DFD-AEEF-797A08D7A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29F8B-AF94-4AD0-89A8-60DFDB09A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33CD1-EB61-45F2-BC94-3834E59C9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0A55F9-02A3-47E5-BCBF-114F653B31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F6C16D-F5CC-4BA9-AC72-F78A414287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58709-4A44-454F-9839-893E561AA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6D189-2D17-4618-B5DF-26055F6F5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BEC2E-9A62-4058-B925-04F62E14B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CE779-5CDD-4088-BC36-CEC17FB35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B98EA-7627-4A8E-83CA-85B2A6A63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1DB29-2272-47EF-A988-62EAAC055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1AD77-FAF5-45EE-AEAB-0A506E84F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7682-5478-4BB8-9931-DDB32D98D9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79EAE-B2E9-44B1-BAF4-599A922AC2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SOUTHERN DELTA ELECTRICAL CONDUCTIVITY WATER QUALITY OBJECTIVES</a:t>
            </a:r>
            <a:endParaRPr b="0" lang="en-US" sz="36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BY</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R. JOHNSTON</a:t>
            </a: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San Joaquin River Group  03/14/05</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mmary of UC Testimony (3)</a:t>
            </a: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n Studies on Mineral Soil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ching fractions of 15% to 16% can be achieved with normal irrigations and winter precipitation</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ne study locations during dry year (1976) found highest soil salinities and lowest apparent leaching fractions occurred where irrigation water was of highest quality (0.7 mmhos/cm)</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an Joaquin River Group  03/14/0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erminology</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linity refers to total dissolved ionic solids (TDS) in water expressed in: </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arts per million (ppm), </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arts per thousand (ppt)</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illigrams per kilogram (mg/Kg)</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an Joaquin River Group  03/14/0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erminology</a:t>
            </a:r>
            <a:endParaRPr b="0" lang="en-US" sz="44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ical Conductivity (EC) is a measurement  of the salinity of water where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 units are expressed in </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illimhos per centimeter (mmhos/cm) (ol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deciSiemens per meter (dS/m) (new)</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mhos/cm = dS/m  </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uS/cm = 10dS/m</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an Joaquin River Group  03/14/05</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erminology</a:t>
            </a:r>
            <a:endParaRPr b="0" lang="en-US" sz="44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 of Irrigation Water (EC</a:t>
            </a:r>
            <a:r>
              <a:rPr b="0" lang="en-US" sz="1600" spc="-1" strike="noStrike">
                <a:solidFill>
                  <a:srgbClr val="ffffff"/>
                </a:solidFill>
                <a:latin typeface="Arial"/>
              </a:rPr>
              <a:t>i</a:t>
            </a:r>
            <a:r>
              <a:rPr b="0" lang="en-US" sz="2800" spc="-1" strike="noStrike">
                <a:solidFill>
                  <a:srgbClr val="ffffff"/>
                </a:solidFill>
                <a:latin typeface="Arial"/>
              </a:rPr>
              <a:t>, EC</a:t>
            </a:r>
            <a:r>
              <a:rPr b="0" lang="en-US" sz="1600" spc="-1" strike="noStrike">
                <a:solidFill>
                  <a:srgbClr val="ffffff"/>
                </a:solidFill>
                <a:latin typeface="Arial"/>
              </a:rPr>
              <a:t>iw</a:t>
            </a:r>
            <a:r>
              <a:rPr b="0" lang="en-US" sz="2800" spc="-1" strike="noStrike">
                <a:solidFill>
                  <a:srgbClr val="ffffff"/>
                </a:solidFill>
                <a:latin typeface="Arial"/>
              </a:rPr>
              <a:t>, EC</a:t>
            </a:r>
            <a:r>
              <a:rPr b="0" lang="en-US" sz="1600" spc="-1" strike="noStrike">
                <a:solidFill>
                  <a:srgbClr val="ffffff"/>
                </a:solidFill>
                <a:latin typeface="Arial"/>
              </a:rPr>
              <a:t>w</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 of Soil Water (EC</a:t>
            </a:r>
            <a:r>
              <a:rPr b="0" lang="en-US" sz="1600" spc="-1" strike="noStrike">
                <a:solidFill>
                  <a:srgbClr val="ffffff"/>
                </a:solidFill>
                <a:latin typeface="Arial"/>
              </a:rPr>
              <a:t>e</a:t>
            </a:r>
            <a:r>
              <a:rPr b="0" lang="en-US" sz="2800" spc="-1" strike="noStrike">
                <a:solidFill>
                  <a:srgbClr val="ffffff"/>
                </a:solidFill>
                <a:latin typeface="Arial"/>
              </a:rPr>
              <a:t>, EC</a:t>
            </a:r>
            <a:r>
              <a:rPr b="0" lang="en-US" sz="1600" spc="-1" strike="noStrike">
                <a:solidFill>
                  <a:srgbClr val="ffffff"/>
                </a:solidFill>
                <a:latin typeface="Arial"/>
              </a:rPr>
              <a:t>sw</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 of Drainage Water (EC</a:t>
            </a:r>
            <a:r>
              <a:rPr b="0" lang="en-US" sz="1600" spc="-1" strike="noStrike">
                <a:solidFill>
                  <a:srgbClr val="ffffff"/>
                </a:solidFill>
                <a:latin typeface="Arial"/>
              </a:rPr>
              <a:t>d</a:t>
            </a:r>
            <a:r>
              <a:rPr b="0" lang="en-US" sz="2800" spc="-1" strike="noStrike">
                <a:solidFill>
                  <a:srgbClr val="ffffff"/>
                </a:solidFill>
                <a:latin typeface="Arial"/>
              </a:rPr>
              <a:t>, EC</a:t>
            </a:r>
            <a:r>
              <a:rPr b="0" lang="en-US" sz="1600" spc="-1" strike="noStrike">
                <a:solidFill>
                  <a:srgbClr val="ffffff"/>
                </a:solidFill>
                <a:latin typeface="Arial"/>
              </a:rPr>
              <a:t>dw</a:t>
            </a: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an Joaquin River Group  03/14/0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mmary of UC Testimony (4)</a:t>
            </a: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d leaching and low salt accumulations were found in all locations where the irrigation water supply averaged 1.1 mmhos/cm</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ide variability in Delta soils contributed more to the variability in the salt accumulation than did the salinity of the water supply</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an Joaquin River Group  03/14/05</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mmary of UC Testimony (5)</a:t>
            </a: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pite the above finding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C Experts stated in December 1976</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This study has shown that salinity is a problem now in the Delta.  Given the wide variety of soils in the South Delta, good yields and diversity of crops appear to be related to water quality and levels of farm management”</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an Joaquin River Group  03/14/05</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WRCB Focus in Adopting D-1485</a:t>
            </a:r>
            <a:endParaRPr b="0" lang="en-US" sz="4000" spc="-1" strike="noStrike">
              <a:solidFill>
                <a:srgbClr val="ccecff"/>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appears that in 1976 the SWRCB was most concerned with protecting crops grown on difficult to manage peat soil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oard aske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If the water quality guidelines, as presented in exhibit UC-1 and UC-2, need to be modified for use of subsurface irrigation as stated on page 8, line 26 and 27 of the UC-2 exhibit (FAO-29), can you suggest a way to modify?”</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an Joaquin River Group  03/14/05</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C Response</a:t>
            </a:r>
            <a:endParaRPr b="0" lang="en-US" sz="44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r. Ayers developed a four page answer that basically said:</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n order to achieve a 100% corn yield on mineral soils using surface irrigation, a 16% leaching fraction with a water quality of 1.13 mmhos/cm would be needed.</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n order to achieve a 100% corn yield on peat soils with subsurface irrigation a water quality of 0.42 to 0.85 mmhos/cm would be needed.</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San Joaquin River Group  03/14/05</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WRCB Adopted  Water Quality Objectives for Agricultural Beneficial uses</a:t>
            </a:r>
            <a:endParaRPr b="0" lang="en-US" sz="32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n Joaquin River at Airport Way Bridge,Vernali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30-day running average of mean daily EC</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ril – August:  EC = 0.7 mmhos/cm</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tember – March: EC = 1.0 mmhos/cm</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an Joaquin River Group  03/14/05</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0" lang="en-US" sz="4000" spc="-1" strike="noStrike">
                <a:solidFill>
                  <a:srgbClr val="ccecff"/>
                </a:solidFill>
                <a:latin typeface="Arial"/>
              </a:rPr>
              <a:t>Salinity </a:t>
            </a:r>
            <a:r>
              <a:rPr b="0" lang="en-US" sz="3600" spc="-1" strike="noStrike">
                <a:solidFill>
                  <a:srgbClr val="ccecff"/>
                </a:solidFill>
                <a:latin typeface="Arial"/>
              </a:rPr>
              <a:t>Research After D-1485 (1)</a:t>
            </a:r>
            <a:endParaRPr b="0" lang="en-US" sz="36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ffman, et al (1983) reported on 3-year corn experiment in Delta and concluded</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For subirrigation, an EC</a:t>
            </a:r>
            <a:r>
              <a:rPr b="0" lang="en-US" sz="1600" spc="-1" strike="noStrike">
                <a:solidFill>
                  <a:srgbClr val="ffffff"/>
                </a:solidFill>
                <a:latin typeface="Arial"/>
              </a:rPr>
              <a:t>i</a:t>
            </a:r>
            <a:r>
              <a:rPr b="0" lang="en-US" sz="2800" spc="-1" strike="noStrike">
                <a:solidFill>
                  <a:srgbClr val="ffffff"/>
                </a:solidFill>
                <a:latin typeface="Arial"/>
              </a:rPr>
              <a:t> up to 1.5 dS/m did not decrease yield as leaching had reduced EC</a:t>
            </a:r>
            <a:r>
              <a:rPr b="0" lang="en-US" sz="1600" spc="-1" strike="noStrike">
                <a:solidFill>
                  <a:srgbClr val="ffffff"/>
                </a:solidFill>
                <a:latin typeface="Arial"/>
              </a:rPr>
              <a:t>sw </a:t>
            </a:r>
            <a:r>
              <a:rPr b="0" lang="en-US" sz="2800" spc="-1" strike="noStrike">
                <a:solidFill>
                  <a:srgbClr val="ffffff"/>
                </a:solidFill>
                <a:latin typeface="Arial"/>
              </a:rPr>
              <a:t>below the threshold.</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surface irrigation with water of up to 6 dS/m after mid-season (end of July) did not reduce yield below that of treatments where the salinity of the irrigation water was not increased mid-season.”</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an Joaquin River Group  03/14/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ccecff"/>
                </a:solidFill>
                <a:latin typeface="Arial"/>
              </a:rPr>
              <a:t>SWRCB based the Southern Delta Agricultural Water Quality Objectives on:</a:t>
            </a:r>
            <a:endParaRPr b="0" lang="en-US" sz="40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alculated maximum salinity of applied water that sustains 100% yield of salt sensitive crops grown in the southern Delta (surface irrigation of mineral soils) per the University of California Guidelines and Irrigation Paper 29 of the Food and Agricultural Organization of the United Nations.</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San Joaquin River Group  03/14/05</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alinity Research After D-1485 (2)</a:t>
            </a:r>
            <a:endParaRPr b="0" lang="en-US" sz="4000" spc="-1" strike="noStrike">
              <a:solidFill>
                <a:srgbClr val="ccecff"/>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tchard, et al (1983) reporte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At the soil water salinity threshold of corn grain (3.7 dS/m), the average ratio is 1.7 which results in a  maximum value of 2.2 dS/m of EC</a:t>
            </a:r>
            <a:r>
              <a:rPr b="0" lang="en-US" sz="1600" spc="-1" strike="noStrike">
                <a:solidFill>
                  <a:srgbClr val="ffffff"/>
                </a:solidFill>
                <a:latin typeface="Arial"/>
              </a:rPr>
              <a:t>i</a:t>
            </a:r>
            <a:r>
              <a:rPr b="0" lang="en-US" sz="2800" spc="-1" strike="noStrike">
                <a:solidFill>
                  <a:srgbClr val="ffffff"/>
                </a:solidFill>
                <a:latin typeface="Arial"/>
              </a:rPr>
              <a:t> without yield loss under normal conditions.  With subirrigtion and below normal rainfall, as in 1981, the maximum value of EC</a:t>
            </a:r>
            <a:r>
              <a:rPr b="0" lang="en-US" sz="1600" spc="-1" strike="noStrike">
                <a:solidFill>
                  <a:srgbClr val="ffffff"/>
                </a:solidFill>
                <a:latin typeface="Arial"/>
              </a:rPr>
              <a:t>i</a:t>
            </a:r>
            <a:r>
              <a:rPr b="0" lang="en-US" sz="2800" spc="-1" strike="noStrike">
                <a:solidFill>
                  <a:srgbClr val="ffffff"/>
                </a:solidFill>
                <a:latin typeface="Arial"/>
              </a:rPr>
              <a:t> would be 0.8 dS/m”.</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an Joaquin River Group  03/14/05</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alinity Research After D-1485 (3)</a:t>
            </a:r>
            <a:endParaRPr b="0" lang="en-US" sz="40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adoro-Ramerez, Berenguer-Merelo and Grattan (2004) reported</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When and EC</a:t>
            </a:r>
            <a:r>
              <a:rPr b="0" lang="en-US" sz="1400" spc="-1" strike="noStrike">
                <a:solidFill>
                  <a:srgbClr val="ffffff"/>
                </a:solidFill>
                <a:latin typeface="Arial"/>
              </a:rPr>
              <a:t>w</a:t>
            </a:r>
            <a:r>
              <a:rPr b="0" lang="en-US" sz="2400" spc="-1" strike="noStrike">
                <a:solidFill>
                  <a:srgbClr val="ffffff"/>
                </a:solidFill>
                <a:latin typeface="Arial"/>
              </a:rPr>
              <a:t> of 1.1 dS/m is considered over the 53-year rainfall series (Davis) the model predicts that the seasonal mean EC</a:t>
            </a:r>
            <a:r>
              <a:rPr b="0" lang="en-US" sz="1400" spc="-1" strike="noStrike">
                <a:solidFill>
                  <a:srgbClr val="ffffff"/>
                </a:solidFill>
                <a:latin typeface="Arial"/>
              </a:rPr>
              <a:t>e</a:t>
            </a:r>
            <a:r>
              <a:rPr b="0" lang="en-US" sz="2400" spc="-1" strike="noStrike">
                <a:solidFill>
                  <a:srgbClr val="ffffff"/>
                </a:solidFill>
                <a:latin typeface="Arial"/>
              </a:rPr>
              <a:t> is 0.94 dS/m.  In 80% of the years, the mean seasonal EC</a:t>
            </a:r>
            <a:r>
              <a:rPr b="0" lang="en-US" sz="1600" spc="-1" strike="noStrike">
                <a:solidFill>
                  <a:srgbClr val="ffffff"/>
                </a:solidFill>
                <a:latin typeface="Arial"/>
              </a:rPr>
              <a:t>e</a:t>
            </a:r>
            <a:r>
              <a:rPr b="0" lang="en-US" sz="2400" spc="-1" strike="noStrike">
                <a:solidFill>
                  <a:srgbClr val="ffffff"/>
                </a:solidFill>
                <a:latin typeface="Arial"/>
              </a:rPr>
              <a:t> is less than 1.0 dS/m, the yield threshold for salt-sensitive bean.  For 50 of the 53 years, the seasonal mean EC</a:t>
            </a:r>
            <a:r>
              <a:rPr b="0" lang="en-US" sz="1600" spc="-1" strike="noStrike">
                <a:solidFill>
                  <a:srgbClr val="ffffff"/>
                </a:solidFill>
                <a:latin typeface="Arial"/>
              </a:rPr>
              <a:t>e</a:t>
            </a:r>
            <a:r>
              <a:rPr b="0" lang="en-US" sz="2400" spc="-1" strike="noStrike">
                <a:solidFill>
                  <a:srgbClr val="ffffff"/>
                </a:solidFill>
                <a:latin typeface="Arial"/>
              </a:rPr>
              <a:t> for individual years is 1.05 or lower, which would result  in a predicted yield reduction of 1% or less.  However, this predicted reduction in yield potential is less than the error associated with the yield threshold value itself.” </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an Joaquin River Group  03/14/05</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alinity Research After D-1485 (4)</a:t>
            </a:r>
            <a:endParaRPr b="0" lang="en-US" sz="4000" spc="-1" strike="noStrike">
              <a:solidFill>
                <a:srgbClr val="ccecff"/>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doro-Ramerez, Berenguer-Merelo and Grattan (2004) summarized as follows:</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Given these results, and taking into account all the other factors that potentially impact crop yield (e.g., weather, water stress, and biotic stresses) and the conservative nature of all inputs into the model, the use of 1.1dS/m as the threshold EC value for irrigation water is considered protective for beans, and thus all other agricultural uses of the water in the Davis area.”</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an Joaquin River Group  03/14/05</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uthern Delta Service Area</a:t>
            </a:r>
            <a:endParaRPr b="0" lang="en-US" sz="44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estimated that about 90% of the crops  irrigated with San Joaquin River water in the Southern Delta are planted on mineral soil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ans most salt sensitive crop grown</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beans are grown on mineral soil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 of 1.1 dS/m protective of beans and other crops grown with San Joaquin River water</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an Joaquin River Group  03/14/05</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
          <p:cNvSpPr/>
          <p:nvPr/>
        </p:nvSpPr>
        <p:spPr>
          <a:xfrm>
            <a:off x="0" y="190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58" name=""/>
          <p:cNvGraphicFramePr/>
          <p:nvPr/>
        </p:nvGraphicFramePr>
        <p:xfrm>
          <a:off x="0" y="123840"/>
          <a:ext cx="9144000" cy="4829040"/>
        </p:xfrm>
        <a:graphic>
          <a:graphicData uri="http://schemas.openxmlformats.org/presentationml/2006/ole">
            <p:oleObj progId="Excel.Sheet.12" r:id="rId1" spid="">
              <p:embed/>
              <p:pic>
                <p:nvPicPr>
                  <p:cNvPr id="259" name="" descr=""/>
                  <p:cNvPicPr/>
                  <p:nvPr/>
                </p:nvPicPr>
                <p:blipFill>
                  <a:blip r:embed="rId2"/>
                  <a:stretch/>
                </p:blipFill>
                <p:spPr>
                  <a:xfrm>
                    <a:off x="0" y="123840"/>
                    <a:ext cx="9144000" cy="4829040"/>
                  </a:xfrm>
                  <a:prstGeom prst="rect">
                    <a:avLst/>
                  </a:prstGeom>
                  <a:ln w="0">
                    <a:noFill/>
                  </a:ln>
                </p:spPr>
              </p:pic>
            </p:oleObj>
          </a:graphicData>
        </a:graphic>
      </p:graphicFrame>
      <p:sp>
        <p:nvSpPr>
          <p:cNvPr id="2" name="PlaceHolder 1"/>
          <p:cNvSpPr>
            <a:spLocks noGrp="1"/>
          </p:cNvSpPr>
          <p:nvPr>
            <p:ph type="ftr" idx="2"/>
          </p:nvPr>
        </p:nvSpPr>
        <p:spPr/>
        <p:txBody>
          <a:bodyPr/>
          <a:p>
            <a:r>
              <a:t>San Joaquin River Group  03/14/05</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
          <p:cNvSpPr/>
          <p:nvPr/>
        </p:nvSpPr>
        <p:spPr>
          <a:xfrm>
            <a:off x="0" y="188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61" name=""/>
          <p:cNvGraphicFramePr/>
          <p:nvPr/>
        </p:nvGraphicFramePr>
        <p:xfrm>
          <a:off x="0" y="82440"/>
          <a:ext cx="9144000" cy="4889520"/>
        </p:xfrm>
        <a:graphic>
          <a:graphicData uri="http://schemas.openxmlformats.org/presentationml/2006/ole">
            <p:oleObj progId="Excel.Sheet.12" r:id="rId1" spid="">
              <p:embed/>
              <p:pic>
                <p:nvPicPr>
                  <p:cNvPr id="262" name="" descr=""/>
                  <p:cNvPicPr/>
                  <p:nvPr/>
                </p:nvPicPr>
                <p:blipFill>
                  <a:blip r:embed="rId2"/>
                  <a:stretch/>
                </p:blipFill>
                <p:spPr>
                  <a:xfrm>
                    <a:off x="0" y="82440"/>
                    <a:ext cx="9144000" cy="4889520"/>
                  </a:xfrm>
                  <a:prstGeom prst="rect">
                    <a:avLst/>
                  </a:prstGeom>
                  <a:ln w="0">
                    <a:noFill/>
                  </a:ln>
                </p:spPr>
              </p:pic>
            </p:oleObj>
          </a:graphicData>
        </a:graphic>
      </p:graphicFrame>
      <p:sp>
        <p:nvSpPr>
          <p:cNvPr id="2" name="PlaceHolder 1"/>
          <p:cNvSpPr>
            <a:spLocks noGrp="1"/>
          </p:cNvSpPr>
          <p:nvPr>
            <p:ph type="ftr" idx="2"/>
          </p:nvPr>
        </p:nvSpPr>
        <p:spPr/>
        <p:txBody>
          <a:bodyPr/>
          <a:p>
            <a:r>
              <a:t>San Joaquin River Group  03/14/05</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lusions</a:t>
            </a:r>
            <a:endParaRPr b="0" lang="en-US" sz="4400" spc="-1" strike="noStrike">
              <a:solidFill>
                <a:srgbClr val="ccecff"/>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llent crops are produced in the Southern Delta</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 management practices are more important than irrigation water salinity, within the range of Delta water quality, in regard to producing crop yield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under the best circumstances, it is difficult to manage poor soils with a shallow water tabl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rigation water with an EC = 1.1 dS/m is adequate to provide sustained 100% yield of salt sensitive crops grown in the southern Delta</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an Joaquin River Group  03/14/05</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Recommended  Water Quality Objectives for Agricultural Beneficial uses</a:t>
            </a:r>
            <a:endParaRPr b="0" lang="en-US" sz="3200" spc="-1" strike="noStrike">
              <a:solidFill>
                <a:srgbClr val="ccecff"/>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n Joaquin River at Airport Way Bridge,Vernali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30-day running average of mean daily EC</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nuary - December: EC = 1.1 dS/m</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San Joaquin River Group  03/14/05</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ethodology for Determining Compliance</a:t>
            </a:r>
            <a:endParaRPr b="0" lang="en-US" sz="3200" spc="-1" strike="noStrike">
              <a:solidFill>
                <a:srgbClr val="ccecff"/>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methodology to utilize the San Joaquin Basin 60-20-20 water year hydrologic classification index rather than the Sacramento River index.</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an Joaquin River Group  03/14/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oncern for Delta Water Salinity Levels</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ta water quality important for agriculture even prior to the construction of:</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Central Valley Project -1944</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State Water Project – 1968</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rn was salinity intrusion from the </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acific Ocean and the San Francisco Bay, particularly in dry years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an Joaquin River Group  03/14/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Prior to Construction of CVP and SWP</a:t>
            </a:r>
            <a:endParaRPr b="0" lang="en-US" sz="36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dry years, such as 1931, water with an EC of about 1.56 mmhos/cm extended into the southern Delta as far as the Grant Line Canal and Upper Roberts Island</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an Joaquin River Group  03/14/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trol of Delta Salinity</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1275 and D-1291 were adopted in 1967 to, among other things, require the CVP and the SWP to control the salinity level in the Delta.</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an Joaquin River Group  03/14/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ssue for SWRCB</a:t>
            </a: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ue in 1975</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ppropriate salinity level should be required to protect the beneficial use of water for the irrigation of Agricultural crops in the Delta?</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dominant crops: (Beans, Corn and Alfalfa)</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an Joaquin River Group  03/14/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Testimony Pertaining to Delta Agriculture – December 1976</a:t>
            </a:r>
            <a:endParaRPr b="0" lang="en-US" sz="36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rrigation and Agronomy Experts from the University of California Agricultural Experiment Station testified </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Ayer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y Branson</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z Kegel</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well Meyer</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an Joaquin River Group  03/14/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mmary of UC Testimony (1)</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rigation water adds salt to soil</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ts use water, leave sal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d farm management and water application practices are necessary</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ess salt must be leached from soil</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ched salt add salt to Delta water</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an Joaquin River Group  03/14/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mmary of UC Testimony (2)</a:t>
            </a:r>
            <a:endParaRPr b="0" lang="en-US" sz="44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n Studies on Peat Soil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ifficult to farm under ideal condition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enerally below sea level</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mpossible to leach with sub- irrigation</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ifficult to leach with surface irrigation</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an Joaquin River Group  03/14/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21:47:03Z</dcterms:created>
  <dc:creator>WILLIAM R. JOHNSTON</dc:creator>
  <dc:description/>
  <dc:language>en-US</dc:language>
  <cp:lastModifiedBy>Ken Petruzzelli</cp:lastModifiedBy>
  <dcterms:modified xsi:type="dcterms:W3CDTF">2005-03-07T23:11:43Z</dcterms:modified>
  <cp:revision>12</cp:revision>
  <dc:subject/>
  <dc:title>TESTIMONY OF  WILLIAM R. JOHNSTON</dc:title>
</cp:coreProperties>
</file>